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02923"/>
        <c:axId val="51676751"/>
      </c:barChart>
      <c:catAx>
        <c:axId val="287029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76751"/>
        <c:crosses val="autoZero"/>
        <c:auto val="1"/>
        <c:lblAlgn val="ctr"/>
        <c:lblOffset val="100"/>
        <c:noMultiLvlLbl val="0"/>
      </c:catAx>
      <c:valAx>
        <c:axId val="516767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029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740-8F81-4A59-9C95-D9FB3738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CD4-8511-40DA-A1BE-E4566CE4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37C7-05B3-4BF6-AE8E-EBF1FE10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022-7584-45AE-B3AB-0F0A4CFD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D889-7497-4422-931C-AB99C069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C828-8678-40E0-936B-CBEB637D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465A-66F9-4C0D-AC5C-67C88430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0D4-765B-49DA-AF33-3E58E688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2EBA-F8B1-4BF8-898A-FA78D2ED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0400-2415-4873-BAC9-F067BF35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D855-E7D7-45E5-9C79-66F3D1F8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C683-4CF6-417E-B9C9-A20FC226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0A305-6BE1-4A18-8450-35F526551C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