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58977"/>
        <c:axId val="88583267"/>
      </c:barChart>
      <c:catAx>
        <c:axId val="92158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83267"/>
        <c:crosses val="autoZero"/>
        <c:auto val="1"/>
        <c:lblAlgn val="ctr"/>
        <c:lblOffset val="100"/>
        <c:noMultiLvlLbl val="0"/>
      </c:catAx>
      <c:valAx>
        <c:axId val="88583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58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939-F372-4990-9263-01EC9D2B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972-6F49-4639-87E6-2B00C7EE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50F-B6E6-4521-A1C0-FEB1129D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B42-010D-40DF-8AE4-8E2E59E7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1AD-8405-4E03-B611-CBDDE69D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1FD-E599-4A76-96C8-910B5E4C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7CC-4C20-49EF-823D-B204451F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9D2-9C81-43BF-87B0-6179DC3A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0C4-46DC-4BAD-AA84-BA916BE3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727-D0B1-421F-8482-377C2093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20F-3E91-4D8F-A11A-E0E2EED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45A-6A90-4B91-9524-D7F45DC7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690BC-4CCA-49DB-97DF-75ECF4BCA1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