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07267"/>
        <c:axId val="81887743"/>
      </c:barChart>
      <c:catAx>
        <c:axId val="45007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87743"/>
        <c:crosses val="autoZero"/>
        <c:auto val="1"/>
        <c:lblAlgn val="ctr"/>
        <c:lblOffset val="100"/>
        <c:noMultiLvlLbl val="0"/>
      </c:catAx>
      <c:valAx>
        <c:axId val="81887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07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324-76F7-4BF2-BF7E-6E1B49EE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8FB-B199-43A9-8D74-700BE899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40A-D8FA-4252-8E37-61C5FF39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92D-74C3-4BFF-8512-4A9FCCAD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84F-B904-499B-AFB6-AA5C86E9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F92-C962-4BA5-B37B-99993B9E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B64-F65D-4A04-8B42-24DD4C82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3D8-19C5-43FF-9579-3BCEAE2B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62A-CA69-4C55-A7F4-CE92F257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76C-14DD-4319-8D14-107A8FDA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BDA-E400-40D4-B262-4B7D97E4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6E7-E391-47BD-8822-D10401C3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332CF-43A8-4AA3-A94E-6CC32EEEFE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