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533245"/>
        <c:axId val="52998452"/>
      </c:barChart>
      <c:catAx>
        <c:axId val="965332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98452"/>
        <c:crosses val="autoZero"/>
        <c:auto val="1"/>
        <c:lblAlgn val="ctr"/>
        <c:lblOffset val="100"/>
        <c:noMultiLvlLbl val="0"/>
      </c:catAx>
      <c:valAx>
        <c:axId val="529984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332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80C2-3A6C-456F-B4F5-1FB1EDB37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B639-587F-4860-81A2-253339D6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A047-B3D4-4621-8007-3E46609C7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6C1D-91FF-44B4-9F88-36C9C1DB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6A00-E8B4-46E5-955F-D1FDFB3E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A46A-B6F2-4CCF-9506-4CD686D6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514A-E0D8-41A4-BC09-3B6EF8F0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F00B-6F01-4FF1-810A-0AF2853C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85C4-1B6A-46ED-AE96-AC7FA045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26AB-7F9C-4E30-A41D-F3356A7C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9C57-E661-4316-B5BE-23A813EA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B710-3057-4812-B823-8C49055D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AACB7-F94F-40EA-80B7-F684A8B277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