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08589"/>
        <c:axId val="53274598"/>
      </c:barChart>
      <c:catAx>
        <c:axId val="13208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74598"/>
        <c:crosses val="autoZero"/>
        <c:auto val="1"/>
        <c:lblAlgn val="ctr"/>
        <c:lblOffset val="100"/>
        <c:noMultiLvlLbl val="0"/>
      </c:catAx>
      <c:valAx>
        <c:axId val="53274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08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52D-F698-45DA-AACB-AF82D259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27E-34B6-4255-BE80-6220B3AE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966-9F1A-4D6B-A195-358909BB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A6F-DF68-44C6-9DFB-48C9C60C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E31-8C84-4635-AA2F-FAC344FA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654-4F42-45B3-ACA3-02A624B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863-7CDA-4467-BC19-DB5F5C7A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536-CA59-40A7-AFFE-7C0130AB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DAB-1459-4613-B202-7BC23BD3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C64-073D-4D20-9F7F-F97FB39B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901-22D7-4092-9FA3-8939CE92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4A3-D9A8-4DB6-BDDA-2D5AAFDE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9905-6AAE-4F3F-A9E7-EEA6117A41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