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151177"/>
        <c:axId val="61969046"/>
      </c:barChart>
      <c:catAx>
        <c:axId val="261511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69046"/>
        <c:crosses val="autoZero"/>
        <c:auto val="1"/>
        <c:lblAlgn val="ctr"/>
        <c:lblOffset val="100"/>
        <c:noMultiLvlLbl val="0"/>
      </c:catAx>
      <c:valAx>
        <c:axId val="619690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511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B0A3-E583-41ED-88A7-4DEDE9D9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9164-548A-4C9F-B7BC-7D1B011C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BB66-46D5-4B5F-B249-0521019C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3B99-47D3-4F87-AE7C-065174300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E683-BB80-4BDE-B95B-C71B5A38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AFDF-2579-4BA0-9A4C-5548BD12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7514-8832-437E-8399-C46DE675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0B49-14CB-4F2A-8081-F372498F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4309-BECE-4658-B44C-4120CE0E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CA7F-F5D4-40E1-881D-8178B2AB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6060-E1F1-4E68-B6A0-BCB941DB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9855-A51E-43C2-8DEE-92852ABF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68D5E-9FC5-4388-B55B-2BF837330A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