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24400"/>
        <c:axId val="99268206"/>
      </c:barChart>
      <c:catAx>
        <c:axId val="73424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68206"/>
        <c:crosses val="autoZero"/>
        <c:auto val="1"/>
        <c:lblAlgn val="ctr"/>
        <c:lblOffset val="100"/>
        <c:noMultiLvlLbl val="0"/>
      </c:catAx>
      <c:valAx>
        <c:axId val="99268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24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400-67E7-4279-B5C8-917FCAFF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A79-1284-4075-BD58-FA699886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DAA-F2A9-4992-8191-0BD72170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206-FB3A-475B-9431-73CE65F5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6D7-DCB1-4B5E-90DB-3EDDFDD6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EA1-7A64-401C-985D-227E8A11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3EE-DE42-40B2-9EBE-96608F91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FC5-88FB-48A5-8A96-F4E29672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893-9486-48A2-BE94-53C7834C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846-9AFF-420A-B10F-15AD612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07C-A7A9-4A90-92D0-CE15831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7BF-C67A-4F4A-9268-9FA6FE35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4ECFF-86A3-4529-8F01-43696E6330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