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8136"/>
        <c:axId val="44077920"/>
      </c:barChart>
      <c:catAx>
        <c:axId val="6828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77920"/>
        <c:crosses val="autoZero"/>
        <c:auto val="1"/>
        <c:lblAlgn val="ctr"/>
        <c:lblOffset val="100"/>
        <c:noMultiLvlLbl val="0"/>
      </c:catAx>
      <c:valAx>
        <c:axId val="44077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8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EB3-23C0-489F-AF5D-044E2FD6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16E-5245-45D7-8210-49A279D7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DA3-A09F-4139-913F-9EE88ED4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8CC7-4F61-4CA9-92A0-9FBFA3EB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676-2811-4D86-B38B-D3BA5C28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24C-0859-4AF6-ADA6-F0F7D72E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48E-1FAF-4EF0-9C94-729C8CCF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52D-89E7-470A-91BE-4EF2193E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088-7E86-4389-9228-06ED4EF4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F18-CDC7-4058-B894-03C1C795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75C-D451-4665-8A9C-8E4BC7A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09F-50CD-4CF4-A1A3-B273C7A5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FC553-C57B-4B90-845D-9015EBF6F4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