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55490"/>
        <c:axId val="62702704"/>
      </c:barChart>
      <c:catAx>
        <c:axId val="54155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02704"/>
        <c:crosses val="autoZero"/>
        <c:auto val="1"/>
        <c:lblAlgn val="ctr"/>
        <c:lblOffset val="100"/>
        <c:noMultiLvlLbl val="0"/>
      </c:catAx>
      <c:valAx>
        <c:axId val="62702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55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9B4-9081-4F8E-BB96-6FA614FE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328-BB48-49EB-9099-6B8FEAB2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BCF-0C1E-4BED-B359-CB696974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52C-3DED-4693-A670-F54DA7EE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B6F-DB29-4ABA-869A-02CC9B97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322-8EA5-4783-8C08-FA7C85DB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296-95C7-46DC-8558-8CC05E49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7A5-E577-46B6-B720-5554B5D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939-8EA2-47B4-A2E6-79FF55BB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3C5-9677-4C22-85C8-33808C98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E5E-B31A-491D-9009-715AC245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E4B-0ED9-4498-8EF5-9645065D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9DE2C-57CB-4E1E-911B-21B8B26067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